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E1B6-CEC8-4425-876C-18F3AB632808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AE9A-6199-4CD2-9242-D3523219B63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165C-9690-44DF-8D14-41A718D43302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0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1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9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7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5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6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1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The Case for Data Management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Agency Requirement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839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uth Duer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0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ost agencies have or are developing data management policies or guidelin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s an investigator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You may need to discuss data management in your proposals in order to obtain fund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You may need to follow agency mandates in regards to managing or archiving the data you generate in order to retain funded statu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951228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gencies requiring data management discussion in proposals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SF requires a two page data management plan submitted with all proposal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any NASA Earth Science solicitations require a discussion of data management in submitted proposal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951228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gencies with data management mandates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any NSF directorates and even specific solicitations have specific requirements for what data should be archived and where the data should go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ll NASA Earth Science science missions, projects, and grants and cooperative agreements require a data management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UC3 overview of Federal Funding Agency Data Management and Sharing Policies: http://www.cdlib.org/services/uc3/datamanagement/funding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gency Guidance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NSF Guidance: http://www.nsf.gov/bfa/dias/policy/dmp.jsp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NASA Data Policy: http://science1.nasa.gov/earth-science/earth-science-data/data-information-policy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NOAA Administrative Order 212-15: http://www.corporateservices.noaa.gov/~ames/NAOs/Chap_212/naos_212_15.htm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xpanded discussion by agenc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NSF data management plann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NASA data polic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NOAA Administrative Order 212-15, Management of Environmental and Geospatial Data and Inform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EPA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USGS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OE? NIH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lements of a data management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Local data managem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eservation strateg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Ruth Duerr</dc:creator>
  <dc:description/>
  <cp:keywords/>
  <dc:language>en-US</dc:language>
  <cp:lastModifiedBy>Ruth Duerr</cp:lastModifiedBy>
  <dcterms:modified xsi:type="dcterms:W3CDTF">2012-04-16T18:25:14Z</dcterms:modified>
  <cp:revision>44</cp:revision>
  <dc:subject>Agency Requirements</dc:subject>
  <dc:title>ESIP Data Management Training</dc:title>
</cp:coreProperties>
</file>